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B13-12B2-4916-B488-F615C550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364-3FBD-4DC4-9F27-704A5068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3D4342-DB4A-4088-833C-E9EB4F19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9E407F-4FB9-4588-B96E-22F5F13C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A9F95D-00DC-40A4-8173-4B470E60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4EA9E-45A6-4AC9-8DB5-35C62E64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2BCA8-ADA8-4CD0-A19A-C502003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BC688-7210-4D52-96B7-94E4A7E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41918-BEE3-41D8-A156-0628409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10966-7432-4B37-8CC2-02D80677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AD6A95-2771-4BEF-AFAD-107232B5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A5463-79C8-44E3-ADB4-65B4A5BD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273-F81B-4F1E-A243-DAC43066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FA894E-F58B-4AC4-90C4-B920098C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10F425-1312-425C-BB6A-A51C4A76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ED2F6-4213-4BA4-80D8-344AC638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898A4D-9A82-4F32-A883-C89BEF5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D34FF6-7B3C-4470-96C2-84B0B07A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98350D-EEAA-4690-8CFD-5ED1328F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E2DA36-B7A9-4402-9A22-40078F9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A249CC-41B4-45D0-B930-2DBE104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89ED44-CC47-4516-8318-F62687C0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7D9D66-E48F-4618-A36E-08EA8F86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7B0-67B5-4444-AF31-E7D2D4ED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57A580-CF8D-4607-BE19-E90A66B0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F3B22-44E9-4565-B9BB-123500C8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426C0-7D80-41C7-A37B-8E55F28E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46D28-FDBB-4F9C-B81F-29C64FC5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E4D7A-EA7F-48A9-8DEC-5BD1E22A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65303-59C5-4043-ADBA-9B304EA2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D2872-4D85-44F1-A3BA-EFA88430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7F5EF-0885-483D-93E0-07B1067E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1931E-BF3A-433A-9714-A84590A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8F8DD-26A8-4B0A-A523-EBB4054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1D198-603A-417D-B022-8E077857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B11C3-8522-46E6-9674-72E7FF82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E656C-7D8D-4D84-8CD3-ED110D07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0682D-B862-414E-89B6-A1B0AD30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54217-AE41-411D-B3AD-8601DE08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04D9B-DED5-4CC7-BC7F-2682FFD1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9BB44-F6B9-4406-830F-1A5A564A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CD8EB-968F-4079-8738-A36D336C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B0632-13C4-4E73-8567-2D842874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62D4C-C954-4150-BE13-5F544ABD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56284-505F-4E5F-9FC3-8E9A7C6C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C587D-0E85-4EEF-9ABA-88645D20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58570-0D60-4B55-9D1D-857E7FD3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E9341-443A-453C-9965-A88B64D3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5A40F-DBC2-46CF-9FA8-F0A02C8C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1CDB2-11FA-44C6-B4AC-70FA1FF2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EE5B9-A1D9-4B7A-9E68-246BC796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6A7E6-1D45-4F74-B094-9B831118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0039A-99D9-4CCC-8A65-044B6683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690A8-B0B0-4C03-A49F-2CDE08D6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FD6A0-4FBD-4D83-9F1D-2F2968FB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7DC6D-954E-4138-88CC-61B095B7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543-420B-4A99-B2E8-4F6FE183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CB927-6A13-4FAB-B675-544B521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05FDD-4791-4B9E-A786-94DB97DA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D1F73-A16A-4C3A-BC54-6BA3131B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6E0DF-285D-4C49-8B09-15928CBE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98006-FA0B-4F55-A078-417D0CF0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88AA0-70B2-42A9-B543-D626D9A3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DDD77-338B-437D-82B0-FA0C0B50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CB502-EA50-45F0-A495-EF99B580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D37B3-7948-41AC-9AB7-B52A3287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E5855-86D4-42C6-86BF-0AD9D3BC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632-775B-45B0-9A9B-7447ECD1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E40B3-C274-4CB2-A16B-8F735405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DFC55-02D0-49C7-BBB1-1E02E2A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77256-0D52-4E59-B04A-75F8D45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CB838-CB67-423F-8C5B-D5E353F2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A8437-12A3-41F8-B412-C51BD5AD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CDE30-21B9-4631-A06D-FB9893AC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945D4-95E9-4882-8CA7-CB70D7D5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A3576-6278-4701-8572-ABC89375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9B31C-D3B4-4F54-9E90-78AFC794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D3248-ACBD-4C93-A68F-9A41E239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2D3-DAEA-406A-9962-700C8178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9A797-6279-48C2-8E00-14274984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C00D9-6600-4A9A-88AE-B9231622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8B2F1-6077-42E3-92BC-87A1EC7E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7690F-1611-4EF8-B20D-9558DE6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7DA13-464D-4C95-AEA8-B05EE60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68CF3-1398-4C75-A0A7-DFCAB97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EEF6B-5C10-433D-ACE4-CF00F0A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EEF8A-5190-40DC-8E0E-AC800AF0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D8375-6971-4BCE-BE1A-C0997F48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45D8B-3786-4F91-966A-D7D7F2A5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D37-6823-47E4-898B-BFC7DDAE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0D6B5-753F-4A6A-8F6E-73700535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7C615-7110-4121-8539-938C4D44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96F4F-CC67-4325-BE9D-A804ACA8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4E87F-2600-4747-A300-92D5B5A5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3563C-EE2D-4268-B53F-E1728DB4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71A62-27C4-44EF-8196-5056E91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9A17F-BB12-4293-A790-62E2387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3D7C8-97F2-467F-84E5-F20FDF8B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75F97-B4D7-48AD-87DD-819A7E73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93DFB-4098-42F9-A573-91BC5390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F57-BE39-435A-9A63-D98FBA28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314DF-184E-4E7F-BB52-D22DCAAD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CD63A-E424-4A0D-B5A5-AA0A5550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01AB1-93C6-4225-A1E1-E86ABD15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583D3-6613-4533-8EF1-1AD9AE98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F626D-874D-4973-98DF-0BA70970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E4262-C6BD-4506-A7A3-E6A7F532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C4EED-A17D-45F6-AE7E-84C61D21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E7E11-2167-4ECE-A5AC-2ED4D2F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4ABDF-10F7-4006-9E3A-ABFF76A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1C34B-3279-4CC0-B9F5-CE6DFDDC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808-00FD-4DA4-A255-D67ECA8A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5CCE0-CC7B-4E19-96E4-B9A0E856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8FE80-B8EB-4AF3-B9A4-D7836675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FFD8F-019F-4E67-9DBF-1FBEB89E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E7F21-CB0E-4BCE-B730-7A30D830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042C0-F408-49E2-9FED-9C1E735B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76A6F-9EB6-4713-A09A-E74AD202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6FE34-AB57-4933-BF82-2CF5BF26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927FC-E800-4C6A-AAF6-CCABA8E8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41AC1-1206-46FD-96FD-7041B951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B6C6C-89A4-47BE-B79D-CBF51DF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92B-675C-48B6-96BA-EE3E6771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376AC-8600-4C41-A469-90FF587F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F9B8D-B86B-4A7C-926C-215B6908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93131-3ECC-470C-ACFF-DD6EAD23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EF3B7-4833-44BF-84A4-001B7AB3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C6C4C1-04FD-487D-9895-4BD7B08F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6C7F68-24D8-49D2-A384-0CBA626A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F1A2E-68F9-4537-AC77-D989E7AD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B4DD4E-21B7-4516-8034-5783922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BF6E9-6E45-4658-844C-DDA13C65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9CC04C-347E-4AD2-99CD-1F188B2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F5C-1632-45A2-9F17-243CF52B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F7848-C32D-48DE-9C6E-5EDA5A87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6503AE-A85E-431E-8AC1-D48DB2DE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58AD04-4A5A-4E2A-83DF-1D24C682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1754D-33D6-4347-9853-911E134B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A38F4-5AFC-401B-8669-B0C2E53A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106D06-4067-4132-97C4-D9F72313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7AC11E-210B-413D-B585-C987A235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E4A96D-8D12-4815-A8E6-9A29E087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DEAE7E-EE6E-4FB4-8D8E-DE8F4D21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87E139-ED53-4803-B8B5-CA573F69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4294-8D5D-4CBF-8270-71C1DFE8444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CF75-BC61-41C8-9C17-57385355FAA3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E24A-8C2F-454F-B2AA-580291626A8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1848-6AF0-40AF-918F-AD97EFE6AEFF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819C-FADA-44C1-A6D2-503FAC8EFC83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DEB-CD14-4CA2-B03B-FE6FEAA1D673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8B95-1539-4FE5-9524-5FD584CFA7A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A62A-C590-4F49-8FC8-5A5FBBA0252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9533-CF6E-4100-9086-32422122216A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57E5-3B89-438C-A085-F17F8A0FD78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A412-0A4C-46FC-ABAB-5D3A99198B5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EFFC-B250-493B-BB0C-414A9EEBB99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2666880" y="1600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                      ni                   me         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7693200" cy="16401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0" y="54864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アンドリュ、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Andrew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コナー、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Connor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スペンサー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Spencer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TextBox 1"/>
          <p:cNvSpPr/>
          <p:nvPr/>
        </p:nvSpPr>
        <p:spPr>
          <a:xfrm>
            <a:off x="763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nime is a type of animation made popular in Japan in the 1910’s. However, there was a discovery in 2005 of a 3-second anime thought to be made in 1905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ere was a major anime studio in the 1920’s which was destroyed by the great  </a:t>
            </a:r>
            <a:r>
              <a:rPr b="0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かんとう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earthquake which caused all the artists to spread out and establish their own studio’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ome of the shows that have helped anime grow more popular in the West during the 1980’s were Dragonball, </a:t>
            </a:r>
            <a:r>
              <a:rPr b="0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ユギオー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YUGI-OH), and Gunda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Some other animes are: Pokemon, Naruto, and One Piec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lthough it started growing in popularity in the early 1910’s it wasn’t until the 1980’s that anime was accepted in the mainstream and finally reached fever pitch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History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4724280" y="617220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Pokem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Dragonbal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YUGI-O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Narut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One Pie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Gunda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Shows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9" name="Picture 11" descr="http://t3.gstatic.com/images?q=tbn:ANd9GcSKahC3qyv6Ru78-f4Ie3L1QyZeFx16W2NaFcGg8nQDAx9jx0IEig"/>
          <p:cNvPicPr/>
          <p:nvPr/>
        </p:nvPicPr>
        <p:blipFill>
          <a:blip r:embed="rId1"/>
          <a:stretch/>
        </p:blipFill>
        <p:spPr>
          <a:xfrm>
            <a:off x="2362320" y="1143000"/>
            <a:ext cx="3657600" cy="54957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collider.com/wp-content/uploads/mobile-suit-gundam-wing.jpg"/>
          <p:cNvPicPr/>
          <p:nvPr/>
        </p:nvPicPr>
        <p:blipFill>
          <a:blip r:embed="rId2"/>
          <a:stretch/>
        </p:blipFill>
        <p:spPr>
          <a:xfrm>
            <a:off x="2514600" y="23623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" descr="http://images5.fanpop.com/image/photos/25000000/Egyptian-Gods-yu-gi-oh-25008438-573-430.jpg"/>
          <p:cNvPicPr/>
          <p:nvPr/>
        </p:nvPicPr>
        <p:blipFill>
          <a:blip r:embed="rId3"/>
          <a:stretch/>
        </p:blipFill>
        <p:spPr>
          <a:xfrm>
            <a:off x="3124080" y="2666880"/>
            <a:ext cx="5265720" cy="3951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http://t2.gstatic.com/images?q=tbn:ANd9GcQwfAXo0aBckH6KzI3KfMw8BBXgL5y2tckv9gtqzWhO6byF104P1A"/>
          <p:cNvPicPr/>
          <p:nvPr/>
        </p:nvPicPr>
        <p:blipFill>
          <a:blip r:embed="rId4"/>
          <a:stretch/>
        </p:blipFill>
        <p:spPr>
          <a:xfrm>
            <a:off x="2590920" y="2438280"/>
            <a:ext cx="5249880" cy="4203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http://media.animevice.com/uploads/0/4479/451882-one_piece_one_piece_1.jpg"/>
          <p:cNvPicPr/>
          <p:nvPr/>
        </p:nvPicPr>
        <p:blipFill>
          <a:blip r:embed="rId5"/>
          <a:stretch/>
        </p:blipFill>
        <p:spPr>
          <a:xfrm>
            <a:off x="2057400" y="20574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http://t0.gstatic.com/images?q=tbn:ANd9GcSLqEP6ctcM9T5SGR04dNNIDKx1HIlXXJ98LDFn34EBQaNHovyg"/>
          <p:cNvPicPr/>
          <p:nvPr/>
        </p:nvPicPr>
        <p:blipFill>
          <a:blip r:embed="rId6"/>
          <a:stretch/>
        </p:blipFill>
        <p:spPr>
          <a:xfrm>
            <a:off x="2057400" y="1828800"/>
            <a:ext cx="4495680" cy="4849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here have been many different styles of anime, some more popular than other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Space operas,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Space Battleship Yamato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Real robot anime,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Mobile Suit Gunda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Super robot anime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, Tetsujin 28-go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Martial arts anime, Dragon Bal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OVA, which are not released in the theater or on T.V. but go straight to video (This is sometimes used as a pilot to an anime such as with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Bleach)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Categories of </a:t>
            </a:r>
            <a:r>
              <a:rPr b="0" lang="ja-JP" sz="40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アニメ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he success of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Dragon Ball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introduced the martial arts genre and became incredibly influential in the Japanese Animation industry. It influenced many more martial arts anime and manga series' including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One Piece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, and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Naruto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One of the most influential anime of all time,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Nausicaa of the Valley of the Wind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allowed director Hayao Miyazaki and his longtime colleague Isao Takahata to set up their own studio under the supervision of former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Animage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editor Toshio Suzuki. This studio would become known as Studio Ghibli which puts out movies such as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My Neighbor Totoro, Kiki’s Delivery Service, and Spirited Away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Corbel"/>
                <a:ea typeface="HGｺﾞｼｯｸM"/>
              </a:rPr>
              <a:t>アニメ</a:t>
            </a:r>
            <a:r>
              <a:rPr b="0" lang="en-CA" sz="4000" spc="-1" strike="noStrike">
                <a:solidFill>
                  <a:srgbClr val="ffffff"/>
                </a:solidFill>
                <a:latin typeface="Corbel"/>
                <a:ea typeface="HGｺﾞｼｯｸM"/>
              </a:rPr>
              <a:t> </a:t>
            </a:r>
            <a:r>
              <a:rPr b="0" lang="en-CA" sz="4000" spc="-1" strike="noStrike">
                <a:solidFill>
                  <a:srgbClr val="ffffff"/>
                </a:solidFill>
                <a:latin typeface="Corbel"/>
                <a:ea typeface="HGｺﾞｼｯｸM"/>
              </a:rPr>
              <a:t>that were influential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04920" y="144756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oei Animation was founded in 1948 and they released the first colour anime feature film in 1958, </a:t>
            </a:r>
            <a:r>
              <a:rPr b="0" lang="ja-JP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はくじゃでん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  <a:ea typeface="HGｺﾞｼｯｸM"/>
              </a:rPr>
              <a:t>(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The Tale of the White Serpent).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t was more Disney in tone due to its musical numbers and animal sidekicks.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t was released in the USA in 1961 as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Panda and the Magic Serp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From 1958 to the mid-1960s Toei continued to release films such as this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and went on to produce some  of the most well known anime series,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Dragon Ball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n 1986,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Sailor Moon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in 1992,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Yu-Gi-Oh!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n 1998,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One Piece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Digimon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in 199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hey also let each animator bring forth his own ideas which led to the movie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Hols: Prince of the Sun, </a:t>
            </a: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which was the beginning of a later movement of “progressive anime” which would eventually involve directors such as Hayao Miyazaki (creator of </a:t>
            </a:r>
            <a:r>
              <a:rPr b="0" i="1" lang="en-CA" sz="1800" spc="-1" strike="noStrike">
                <a:solidFill>
                  <a:srgbClr val="ffffff"/>
                </a:solidFill>
                <a:latin typeface="Corbel"/>
              </a:rPr>
              <a:t>Spirited Away)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Toei animation also developed the “money shot”. This cost-cutting method of animation allows for emphasis to be placed on important shots by animating them with more detail than the rest of the work 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Toei Animatio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8:48:12Z</dcterms:created>
  <dc:creator>Connor McMillan</dc:creator>
  <dc:description/>
  <dc:language>en-US</dc:language>
  <cp:lastModifiedBy>Doris</cp:lastModifiedBy>
  <dcterms:modified xsi:type="dcterms:W3CDTF">2012-12-20T15:31:21Z</dcterms:modified>
  <cp:revision>47</cp:revision>
  <dc:subject/>
  <dc:title>アニメ/まんが　</dc:title>
</cp:coreProperties>
</file>